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94C-DC57-4B94-B5CB-31AC1218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CC9-3A10-40E1-8521-4C81F1CF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DA65-F23E-4F8A-B3A9-D56FD2C0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292-AD39-4825-8F10-B2ADFF35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045C-FDB7-4B4B-A77F-D2CC9677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0C76-7F43-46E2-85DF-4C806F7F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175C-A19A-4869-A452-7C170EF7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53FC-4054-4004-B38A-4768E514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FEE8-0C57-49C6-B4A9-4B5109A1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F3E1-7BE8-4545-B209-B36134A5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6B3F-7547-4B33-9A5E-3F4A2767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ED9-4BAF-4F25-AFD8-47CBA3F0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F950-18E5-44C0-AC80-840344AF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5586-5F5D-4FF5-9C86-10B6C81C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2C4B-8C5F-4DD0-B26B-46AEF2D8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A466-0375-4603-8242-175B8622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6B7B-E037-4F8B-A933-74735AB0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E25-7D94-4782-AF7C-9CD8FAC7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CDD-168A-40A3-A5EA-BED47076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C12B-C502-416E-A1D4-F34F70B2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94F-6A74-42D4-9FB2-16F9BCF5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2D7-D5AF-4B0F-B6AC-8E88677C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55D-64F0-4BB8-AADB-20F0D5B1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288-DCC6-4614-B241-D4F8B127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44C7-0128-451D-A28D-2B0CB3DB203F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5221-5C2F-4756-BC29-6C685839BC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57EA-FEB6-4B3B-A8B8-5A84A751F695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2A3F-4F39-4D06-AE63-6D7F7662B5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ellbio.utmb.edu/cellbio/filam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he Cell Membra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24800" cy="44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2C2F-A7B3-4D75-A830-94EA587C41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EAF1708-EEFA-4431-8FF6-EF52BB5D8A12}" type="datetime1">
              <a:rPr lang="en-US"/>
              <a:t>07/30/26</a:t>
            </a:fld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7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8" dur="17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7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10800000">
                                      <p:cBhvr>
                                        <p:cTn id="21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ransmembrane Protei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ins decrease the surface tension and allow for flexibility in the membr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95680" y="3048120"/>
            <a:ext cx="4248360" cy="305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3962160" cy="25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DBF-EA2D-4C07-8EA4-2EB25B5B4BF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B70BB-5EED-405F-82BB-BCA210876F1A}" type="datetime1">
              <a:rPr lang="en-US"/>
              <a:t>07/30/26</a:t>
            </a:fld>
          </a:p>
        </p:txBody>
      </p:sp>
    </p:spTree>
  </p:cSld>
  <p:transition spd="med"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892 -0.01065 C -0.22691 1.85184999999984E-006 -0.23594 0.01065 -0.23993 0.02407 C -0.24392 0.03866 -0.24601 0.05602 -0.24792 0.07338 C -0.25 0.09074 -0.24792 0.10532 -0.24601 0.12129 C -0.24392 0.13611 -0.24097 0.15208 -0.23385 0.16528 C -0.22795 0.1787 -0.21788 0.18935 -0.20694 0.19745 C -0.19687 0.20532 -0.1849 0.21065 -0.17292 0.21342 C -0.16094 0.21597 -0.14896 0.21597 -0.13785 0.21342 C -0.12587 0.21065 -0.11493 0.20393 -0.1059 0.19329 C -0.09687 0.18403 -0.08889 0.17199 -0.0849 0.15741 C -0.07986 0.14398 -0.07795 0.12546 -0.07795 0.11065 C -0.07691 0.09606 -0.07795 0.0787 -0.08299 0.06412 C -0.08785 0.05069 -0.09687 0.04004 -0.10885 0.03472 C -0.12101 0.03079 -0.13299 0.03611 -0.14097 0.04537 C -0.14792 0.05463 -0.15295 0.06944 -0.15399 0.08657 C -0.15399 0.10393 -0.15295 0.11991 -0.14792 0.13333 C -0.14288 0.14676 -0.14392 0.1493 -0.12396 0.16666 C -0.1059 0.18541 -0.08785 0.18009 -0.07691 0.18125 C -0.06597 0.18125 -0.05694 0.17592 -0.04601 0.1706 C -0.03385 0.16412 -0.02396 0.15208 -0.01684 0.14143 C -0.0099 0.13079 -0.00694 0.11736 -0.00295 0.09606 C 0 0.07477 0 0.06412 0 0.04791 C 0 0.03194 0 0.01597 0 1.85185E-006 E">
                                      <p:cBhvr>
                                        <p:cTn id="35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892 -0.01065 C 0.22691 -3.70370000000661E-007 0.23594 0.01065 0.23993 0.02407 C 0.24392 0.03866 0.24601 0.05602 0.24792 0.07338 C 0.25 0.09074 0.24792 0.10532 0.24601 0.1213 C 0.24392 0.13611 0.24097 0.15208 0.23385 0.16528 C 0.22795 0.1787 0.21788 0.18935 0.20694 0.19745 C 0.19688 0.20532 0.1849 0.21065 0.17292 0.21343 C 0.16094 0.21597 0.14896 0.21597 0.13785 0.21343 C 0.12587 0.21065 0.11493 0.20394 0.1059 0.19329 C 0.09688 0.18403 0.08889 0.17199 0.0849 0.15741 C 0.07986 0.14398 0.07795 0.12546 0.07795 0.11065 C 0.07691 0.09607 0.07795 0.0787 0.08299 0.06412 C 0.08785 0.05069 0.09688 0.04005 0.10885 0.03472 C 0.12101 0.03079 0.13299 0.03611 0.14097 0.04537 C 0.14792 0.05463 0.15295 0.06944 0.15399 0.08657 C 0.15399 0.10394 0.15295 0.11991 0.14792 0.13333 C 0.14288 0.14676 0.14392 0.14931 0.12396 0.16667 C 0.1059 0.18542 0.08785 0.18009 0.07691 0.18125 C 0.06597 0.18125 0.05694 0.17593 0.04601 0.1706 C 0.03385 0.16412 0.02396 0.15208 0.01684 0.14144 C 0.0099 0.13079 0.00694 0.11736 0.00295 0.09607 C 0 0.07477 0 0.06412 0 0.04792 C 0 0.03194 0 0.01597 0 -3.7037E-007 E">
                                      <p:cBhvr>
                                        <p:cTn id="35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Glycolipids 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(outside of cell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gar groups projecting into the extracellular space (</a:t>
            </a:r>
            <a:r>
              <a:rPr b="0" i="1" lang="en-US" sz="2800" spc="-1" strike="noStrike">
                <a:solidFill>
                  <a:srgbClr val="6699ff"/>
                </a:solidFill>
                <a:latin typeface="Tahoma"/>
              </a:rPr>
              <a:t>blue col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protective, insulators, and sites of receptor binding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 communic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7920" y="3759120"/>
            <a:ext cx="6019560" cy="26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397-8854-49C9-B9C2-1B7C424189A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CFD36-6B06-44E3-B888-2222C85DA707}" type="datetime1">
              <a:rPr lang="en-US"/>
              <a:t>07/30/26</a:t>
            </a:fld>
          </a:p>
        </p:txBody>
      </p:sp>
    </p:spTree>
  </p:cSld>
  <p:transition spd="med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holesterol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mount of cholesterol may vary with the type of membra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sma membranes have nearly one cholesterol per phospholipid molecu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membran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like those around bacteria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ve no cholester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cholesterol.jpg (33106 bytes)"/>
          <p:cNvPicPr/>
          <p:nvPr/>
        </p:nvPicPr>
        <p:blipFill>
          <a:blip r:embed="rId1"/>
          <a:stretch/>
        </p:blipFill>
        <p:spPr>
          <a:xfrm>
            <a:off x="6477120" y="1676520"/>
            <a:ext cx="1981080" cy="19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B8E-FA52-41AB-ABD3-2162573CB72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C66FE-06F4-4C48-B657-D53A51DCF989}" type="datetime1">
              <a:rPr lang="en-US"/>
              <a:t>07/30/26</a:t>
            </a:fld>
          </a:p>
        </p:txBody>
      </p:sp>
    </p:spTree>
  </p:cSld>
  <p:transition spd="med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holesterol continued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obilize the top part of the phospholipid molecu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akes the lipid bi-layer less deformable and decreases its permeability to small water-soluble molecules (stabilizes cell sh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out cholesterol (such as in a bacterium) a cell would need a cell w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vents crystallization of hydrocarbons and phase shifts in the membra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cholesterol.jpg (33106 bytes)"/>
          <p:cNvPicPr/>
          <p:nvPr/>
        </p:nvPicPr>
        <p:blipFill>
          <a:blip r:embed="rId1"/>
          <a:stretch/>
        </p:blipFill>
        <p:spPr>
          <a:xfrm>
            <a:off x="6477120" y="1676520"/>
            <a:ext cx="1981080" cy="19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E0E-9FEC-4BDC-A9B1-AE716C8600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EB0D4-86A9-45F8-80C3-C925E4B26EB7}" type="datetime1">
              <a:rPr lang="en-US"/>
              <a:t>07/30/26</a:t>
            </a:fld>
          </a:p>
        </p:txBody>
      </p:sp>
    </p:spTree>
  </p:cSld>
  <p:transition spd="med"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429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5 0.05556 L 0.10833 -0.26597 E">
                                      <p:cBhvr>
                                        <p:cTn id="43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What is the cell membrane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utermost lining of a c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es the internal from the external environ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mary boundary in animal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cells have a rigi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ell wall as we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4343400"/>
            <a:ext cx="4952880" cy="203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A49-62CE-449B-8A3D-B632C7339C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A0C98-A96C-4CB5-8B68-A862DBEAF3F5}" type="datetime1">
              <a:rPr lang="en-US"/>
              <a:t>07/30/26</a:t>
            </a:fld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What are membranes for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16160" y="1392120"/>
            <a:ext cx="7292880" cy="48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 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ulate transport of substances into and out of the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 for cell recog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anchoring sites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cytoskeletal filamen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 components of the extracellular matrix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stable site for the binding of enzym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passageway across the membrane for certain molecu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A71-773B-44C3-A950-1C15DF76F5C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7980E-55AD-4F90-90B8-89B1333F79FB}" type="datetime1">
              <a:rPr lang="en-US"/>
              <a:t>07/30/26</a:t>
            </a:fld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History of Knowledg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4190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 &amp; D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0-40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of two layers of lip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in co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open gaps – “pore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DDmodel.jpg (24594 bytes)"/>
          <p:cNvPicPr/>
          <p:nvPr/>
        </p:nvPicPr>
        <p:blipFill>
          <a:blip r:embed="rId1"/>
          <a:stretch/>
        </p:blipFill>
        <p:spPr>
          <a:xfrm>
            <a:off x="457200" y="3809880"/>
            <a:ext cx="3809880" cy="2370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Robertson.jpg (25707 bytes)"/>
          <p:cNvPicPr/>
          <p:nvPr/>
        </p:nvPicPr>
        <p:blipFill>
          <a:blip r:embed="rId2"/>
          <a:stretch/>
        </p:blipFill>
        <p:spPr>
          <a:xfrm>
            <a:off x="4876920" y="3809880"/>
            <a:ext cx="3733560" cy="2435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24280" y="1143000"/>
            <a:ext cx="4191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ROBERTSON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1950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Coated with a glycoprotein cov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NO Large open gaps – “por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059-52C0-4D14-9540-26BB9FA337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D715A-AE03-4749-A035-B654CE477231}" type="datetime1">
              <a:rPr lang="en-US"/>
              <a:t>07/30/26</a:t>
            </a:fld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luid Mosaic Model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70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er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hol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ranes function in two dimen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lecules can rotate and move laterally (no flip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ins embedded randomly (a mosa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791320" cy="30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E61-CA36-45AF-A69A-7B4664901D3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ACB38-57CE-4ED5-BDD8-C7585EF1F237}" type="datetime1">
              <a:rPr lang="en-US"/>
              <a:t>07/30/26</a:t>
            </a:fld>
          </a:p>
        </p:txBody>
      </p:sp>
    </p:spTree>
  </p:cSld>
  <p:transition spd="med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How is the membrane constructed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mbles a railroad track, otherwise known as a fluid mosaic mod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layers of phospholi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ittent prote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in to lip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 varies by cell typ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00600" y="3276720"/>
            <a:ext cx="4191120" cy="28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555-2CC0-4342-95CA-ABC8329515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CEE8B-F5C8-45D7-88D6-2B76DA0A8288}" type="datetime1">
              <a:rPr lang="en-US"/>
              <a:t>07/30/26</a:t>
            </a:fld>
          </a:p>
        </p:txBody>
      </p:sp>
    </p:spTree>
  </p:cSld>
  <p:transition spd="med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hospholipid Bi-laye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pids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mphipath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dual passi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philic” polar heads pointing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phobic” portion forming the c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s fluid characteris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molecules are in constant mo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200484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56006" r="0" b="0"/>
          <a:stretch/>
        </p:blipFill>
        <p:spPr>
          <a:xfrm>
            <a:off x="3505320" y="4191120"/>
            <a:ext cx="426708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3CF-DE50-4F9C-80BC-FF9695D52D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724CD-00D5-4C0E-9024-779B788FDDE3}" type="datetime1">
              <a:rPr lang="en-US"/>
              <a:t>07/30/26</a:t>
            </a:fld>
          </a:p>
        </p:txBody>
      </p:sp>
    </p:spTree>
  </p:cSld>
  <p:transition spd="med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Key Parts to the Plasma Membra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2882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membrane protein and Peripheral Protei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during active transport of particles across the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ycolip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leste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9CD-8262-4A53-A3D0-AC1683610D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65090-EF13-44D9-A0FF-4BE9C4116A81}" type="datetime1">
              <a:rPr lang="en-US"/>
              <a:t>07/30/26</a:t>
            </a:fld>
          </a:p>
        </p:txBody>
      </p:sp>
    </p:spTree>
  </p:cSld>
  <p:transition spd="med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tein Typ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4267440" cy="3353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1371600"/>
            <a:ext cx="464796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Transmembrane – transverse the entire memb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  <a:ea typeface="Arial"/>
              </a:rPr>
              <a:t>Tube for pa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Integral – dissect through one side of the membrane on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  <a:ea typeface="Arial"/>
              </a:rPr>
              <a:t>Turnstile for 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Peripheral – attached on one side of membrane without intersecting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  <a:ea typeface="Arial"/>
              </a:rPr>
              <a:t>Attachment site for other mate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DBF-29E4-48E4-87FB-2E29A486773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A5481-6F5C-425E-83FC-1C756365B494}" type="datetime1">
              <a:rPr lang="en-US"/>
              <a:t>07/30/26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connor</cp:lastModifiedBy>
  <dcterms:modified xsi:type="dcterms:W3CDTF">2008-10-26T15:11:05Z</dcterms:modified>
  <cp:revision>14</cp:revision>
  <dc:subject/>
  <dc:title>PowerPoint Presentation</dc:title>
</cp:coreProperties>
</file>